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01D9-906C-4639-BAEE-B6FEF56F6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4713-038A-46BA-82FF-D7FC1AF1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D574-BF4D-4640-A8EB-14CBF6EC3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8D08-3063-4C2D-B288-66E1F864B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199C-3F4D-477F-BE59-18ADFC0EB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AF87-C85B-441B-80DB-686F73A1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CC04-038B-49B9-8BD1-E88C38BF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63A6-D957-4F70-A40C-F46B8536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20AD-C3B7-468B-9263-22950920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C84C-40A2-4F67-B8EF-8FDB8674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5A3A-3C4F-48C8-90A5-4ABB95E2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98A3-A34F-43B1-907D-C57C3950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42D5-B800-4A4A-8E14-DEBB4BD7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0107-008A-44C8-9EBA-0190884B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76BB-DFE3-4B17-91A5-96382FCB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2A77-37E4-47CF-84E2-D0AAF5579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5DEF-2834-48A2-AB4A-95AB3D64E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172C-8267-4541-B540-06046CDF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0D3A-DCCB-4200-9D53-4EFF51DA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4098-3520-4650-9607-98E7B72E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B639-FC84-4972-BD06-4C32D69D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3BD6-09F5-4D1D-826C-B54BDA82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534F-A6E7-492A-A983-3430DE77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3DFB-3AA7-48F3-B41C-147EDF9E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2FF6-4AF3-451E-8422-F9D544135B58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E802-D661-4FCE-9A25-274F2956B873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Verdana"/>
              </a:rPr>
              <a:t>Adquisición de Seguros Institucional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23880" y="274284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CONAF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Marcelo Carrasc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Mario Valenzuel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Introduc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560" y="2214360"/>
            <a:ext cx="88390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Unidad encargada: Departamento de Administrac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Los seguros que contrata están orientados a varios ítems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Vehícul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Embarcacion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Combatientes o brigadista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Guarda parqu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Computado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Inmuebl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Altos ejecutiv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Descripción del Proces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2214360"/>
            <a:ext cx="85345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Verdana"/>
              </a:rPr>
              <a:t>Cliente: Departamento de Administración de CONAF Nacional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Verdana"/>
              </a:rPr>
              <a:t>Producto: Seguros de distinto tipo. Vehículos, brigadistas, inmuebles, computadores, guarda parque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Verdana"/>
              </a:rPr>
              <a:t>Objetivo del proceso: Contratación de seguros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Verdana"/>
              </a:rPr>
              <a:t>Medida de efectividad: Bienes y personas permanentemente asegurado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Verdana"/>
              </a:rPr>
              <a:t>Fuentes de generación de valor: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Verdana"/>
              </a:rPr>
              <a:t>Publicación de la licitación por Internet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Verdana"/>
              </a:rPr>
              <a:t>Decisión de adquisición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Verdana"/>
              </a:rPr>
              <a:t>Comunicación de  la información de adquisiciones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Diagrama IDEF0 </a:t>
            </a:r>
            <a:br>
              <a:rPr sz="2800"/>
            </a:b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Nivel A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896472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Nivel A1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Juicios y fundamentos sobre el actual funcionamiento del proceso</a:t>
            </a: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Escaso conocimiento sobre las materias aseguradas por parte de los funcionarios,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Mayor información de la siniestralidad ayudaría a mejorar la gestión en este ámbit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Existe desconocimiento de los procesos de liquidación de los seguros por parte de los funcionarios regional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9T06:32:48Z</dcterms:created>
  <dc:creator>Marcelo</dc:creator>
  <dc:description/>
  <dc:language>en-US</dc:language>
  <cp:lastModifiedBy>Mario Valenzuela</cp:lastModifiedBy>
  <dcterms:modified xsi:type="dcterms:W3CDTF">2005-08-09T04:08:54Z</dcterms:modified>
  <cp:revision>5</cp:revision>
  <dc:subject/>
  <dc:title>Adquisición de Seguros</dc:title>
</cp:coreProperties>
</file>